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204920" y="703440"/>
            <a:ext cx="4694400" cy="35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711360" y="4458960"/>
            <a:ext cx="5680080" cy="4226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C2076-9017-4E40-A83A-43E8E3B3D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AD0A8-E221-46CC-B1F0-17E473859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8DB41-F548-4531-84D1-92137D19B7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F096-B68E-4463-B7C8-135B31E98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2C5DD-0BDD-4AFE-9C03-A52D29AFC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0E83F-311B-4D21-B122-B66FC965C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5C4CE-D010-4A1E-BFD0-FB01F47C7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62080" y="695160"/>
            <a:ext cx="4732200" cy="35499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29880" y="4475160"/>
            <a:ext cx="5189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780C5-A2A9-455E-A404-87C99D42B6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08DC1-6E53-4441-AD7A-4EBA057BF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441440" y="86364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7520" y="4457520"/>
            <a:ext cx="52066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DD823-9670-438A-8E09-441D3E7C3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8916840"/>
            <a:ext cx="3076560" cy="470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06360" y="704880"/>
            <a:ext cx="4691160" cy="3517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7520" y="4457880"/>
            <a:ext cx="5206680" cy="42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5D4-AF65-4653-A7BF-55719C83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BE2-B201-414D-840E-23CF94AE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5E6-1E4B-4BB2-9C18-E00C1F57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F16-4AFC-4CD3-9AE4-FDFCFB37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11C3-5AF4-42DB-9907-1A86419B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5453-9B04-4D36-9C43-8B8143C7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DFDF-2F18-41CC-9268-107DD76A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B301-780A-4A68-93DA-B9490EDC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7C5B-C135-4EC3-BEDF-B7C53604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D3BC-DDE1-428C-8A89-E274D479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B417-F6BF-4EA5-B7D9-03F3EF3D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C0C-D37D-4081-8FE5-1850B9C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F3F1-5C19-4EFA-A1F1-9F89169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4A0C-1DF4-470B-BB32-3FD0DC95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5370-8BB2-42B1-A884-3E1BC6BB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E162-0FDD-4117-B006-7D0C2007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E540-5B06-403D-B977-7CCB6B0D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722-C089-4E50-B152-D59EEDEC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E0F-342F-4518-8405-F2C5C760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DB82-6BB1-4C12-9BB3-AD16D39D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E37-4B64-4659-B1E1-DDA2C6A3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5E2-CDBE-4017-9910-F42AEBDE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D75-D0C2-4465-8756-2545E594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51A-1C65-481D-80D8-0DDEA27D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11B7-F95F-4411-AB0C-0CA8F2E25F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8F57-33A7-4397-8262-5836CE9A8F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edes Inalámbr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ón de redes inalámb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nancia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 la vida nunca se obtiene “algo por nada”, lo mismo aplica en la ganancia de las ant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i la ganancia de una antena sube, el área de cobertura o ángulo, ba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Áreas de cobertura o patrones de radiación son medidos en gr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os ángulos son referidos como ancho del haz y tienen medició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antena teórica (Isot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ica) tiene una perfecta cobertura de 360 grados en horizontal y vertic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o es una referencia para cualquier ant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219640" y="2205000"/>
            <a:ext cx="3924360" cy="2879640"/>
            <a:chOff x="5219640" y="2205000"/>
            <a:chExt cx="3924360" cy="2879640"/>
          </a:xfrm>
        </p:grpSpPr>
        <p:sp>
          <p:nvSpPr>
            <p:cNvPr id="425" name=""/>
            <p:cNvSpPr/>
            <p:nvPr/>
          </p:nvSpPr>
          <p:spPr>
            <a:xfrm>
              <a:off x="5219640" y="220500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40360" y="2565360"/>
              <a:ext cx="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48360" y="2492280"/>
              <a:ext cx="194472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de l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vertic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19640" y="3716280"/>
              <a:ext cx="1440000" cy="1368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32720" y="4003560"/>
              <a:ext cx="241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ta super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atrón Horizont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40360" y="4365720"/>
              <a:ext cx="7164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de antena dip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btener ganancia omnidireccional desde una antena iso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ca, los lóbulos de energía son “empujados” desde la parte de arriba y abajo y forzados a salir en un patrón parecido a una d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entras mas alta es la ganancia menor es el ángulo vertical y mayor es el área cubierta por el lóbulo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mnidireccionales de alta gan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omnidireccionales de alta ganancia crean mas área cubierta en distancias largas, pero los niveles de energía directamente debajo de la antena son bajos y la cobertura ahí es muy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500720" y="2133720"/>
            <a:ext cx="4032000" cy="1720440"/>
            <a:chOff x="4500720" y="2133720"/>
            <a:chExt cx="4032000" cy="1720440"/>
          </a:xfrm>
        </p:grpSpPr>
        <p:sp>
          <p:nvSpPr>
            <p:cNvPr id="436" name=""/>
            <p:cNvSpPr/>
            <p:nvPr/>
          </p:nvSpPr>
          <p:spPr>
            <a:xfrm>
              <a:off x="4500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6720" y="2349360"/>
              <a:ext cx="2016000" cy="505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6720" y="2349360"/>
              <a:ext cx="0" cy="505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24360" y="2781360"/>
              <a:ext cx="1584360" cy="36036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48360" y="3213000"/>
              <a:ext cx="31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ea de baja cobertura directamente bajo la ant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16720" y="2708280"/>
              <a:ext cx="165564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516720" y="2133720"/>
              <a:ext cx="1584360" cy="35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85080" y="220500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16720" y="2421000"/>
              <a:ext cx="144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cho de h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lej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ensibilidad de recepción del radio es mas alta para bajos rangos de velocidad, de esta manera enlaces de larga distancia pueden ser logrados operando los radios a bajas velocidades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bles de baja perdi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po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dios de alta sensibilida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 ambiente (menos humedad e interferencia desde otras fuentes de radiofrecu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6858000" y="3276720"/>
            <a:ext cx="1943280" cy="18097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1667160" cy="18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tancias máx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.4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la distancia máxima entre un cliente y un punto de acceso típicamente no es mayor que 10-12k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5GHz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Hemos probado conexiones de 25 km con antenas de 18dBi, usando antenas de 25dBi se puede obtener a estas distancias un rendimiento entre redes de 10Mbps con facil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tan rápi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“DATA RATE” indica que tan rápido la RF pasa datos. Este RF incluye el overhead del sistema de radio, MAS los datos de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” es la ACTUAL cantidad de datos de RED que pasan de una RED a otra. Recuerde que altos “DATA RATES” no significan “ALTOS THROUGHPUT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equeños tienen un overhead mas gr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calidad de señales de RF requieren de retransmisiones y  bajan 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dimiento 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inalámbricos se conectan a un punto de acce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2007 clientes inalámb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sistema depende del uso; cuantas computadoras están conectadas detrás de los clientes ruteadores y cuanta información es mand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ejor rendimiento no conecte mas de 30-40 redes con máximo 50 PC’s cada 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e control de ancho de banda con los clientes para asegurar que usen el ancho de banda a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roveedores reportan 70-90 clientes p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tos clientes o LANS a un rutead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ntos como tarjetas ethernet tenga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n usar switchs con capacidad de VLANS conectado a un radio que las sopo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0" y="4654440"/>
            <a:ext cx="1150920" cy="50328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88000" y="5589720"/>
            <a:ext cx="79200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24360" y="5589720"/>
            <a:ext cx="792360" cy="43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35640" y="48704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43280" y="5157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3564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58" idx="0"/>
            <a:endCxn id="462" idx="0"/>
          </p:cNvCxnSpPr>
          <p:nvPr/>
        </p:nvCxnSpPr>
        <p:spPr>
          <a:xfrm flipV="1">
            <a:off x="4248000" y="5157360"/>
            <a:ext cx="3960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9" idx="0"/>
            <a:endCxn id="457" idx="3"/>
          </p:cNvCxnSpPr>
          <p:nvPr/>
        </p:nvCxnSpPr>
        <p:spPr>
          <a:xfrm flipH="1" flipV="1">
            <a:off x="5084280" y="5157360"/>
            <a:ext cx="10080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60" idx="0"/>
            <a:endCxn id="463" idx="0"/>
          </p:cNvCxnSpPr>
          <p:nvPr/>
        </p:nvCxnSpPr>
        <p:spPr>
          <a:xfrm flipH="1" flipV="1">
            <a:off x="5579640" y="5157360"/>
            <a:ext cx="5421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067280" y="3933720"/>
            <a:ext cx="1152360" cy="576360"/>
          </a:xfrm>
          <a:prstGeom prst="wedgeRectCallout">
            <a:avLst>
              <a:gd name="adj1" fmla="val -46004"/>
              <a:gd name="adj2" fmla="val 1219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556000" y="4365720"/>
            <a:ext cx="1368360" cy="108108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LAMB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80000" y="501480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73000">
            <a:off x="1474560" y="4149720"/>
            <a:ext cx="444240" cy="936720"/>
          </a:xfrm>
          <a:custGeom>
            <a:avLst/>
            <a:gdLst/>
            <a:ahLst/>
            <a:rect l="l" t="t" r="r" b="b"/>
            <a:pathLst>
              <a:path w="189" h="454">
                <a:moveTo>
                  <a:pt x="0" y="0"/>
                </a:moveTo>
                <a:cubicBezTo>
                  <a:pt x="86" y="75"/>
                  <a:pt x="173" y="151"/>
                  <a:pt x="181" y="227"/>
                </a:cubicBezTo>
                <a:cubicBezTo>
                  <a:pt x="189" y="303"/>
                  <a:pt x="68" y="416"/>
                  <a:pt x="45" y="45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06560" y="4606920"/>
            <a:ext cx="649440" cy="407880"/>
          </a:xfrm>
          <a:custGeom>
            <a:avLst/>
            <a:gdLst/>
            <a:ahLst/>
            <a:rect l="l" t="t" r="r" b="b"/>
            <a:pathLst>
              <a:path w="409" h="257">
                <a:moveTo>
                  <a:pt x="0" y="30"/>
                </a:moveTo>
                <a:cubicBezTo>
                  <a:pt x="91" y="15"/>
                  <a:pt x="182" y="0"/>
                  <a:pt x="227" y="30"/>
                </a:cubicBezTo>
                <a:cubicBezTo>
                  <a:pt x="272" y="60"/>
                  <a:pt x="243" y="173"/>
                  <a:pt x="273" y="211"/>
                </a:cubicBezTo>
                <a:cubicBezTo>
                  <a:pt x="303" y="249"/>
                  <a:pt x="386" y="249"/>
                  <a:pt x="409" y="25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47640" y="465444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nea de vista es OBLIGATORIA para cualquier instalación en enlaces de 2.4GHz y 5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edi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e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árboles (las hojas contienen agua que absorbe la energía de R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urvatura de la tierra debe ser tomada en cuenta cuando se instalan las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eptos de Ant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e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osticando la insta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gurando tu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culo de línea de v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ínea de vista desaparece a los 10km por causa de la curvatura de la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79640" y="3284640"/>
            <a:ext cx="4680000" cy="1258920"/>
          </a:xfrm>
          <a:custGeom>
            <a:avLst/>
            <a:gdLst/>
            <a:ahLst/>
            <a:rect l="l" t="t" r="r" b="b"/>
            <a:pathLst>
              <a:path w="3023" h="612">
                <a:moveTo>
                  <a:pt x="3023" y="612"/>
                </a:moveTo>
                <a:cubicBezTo>
                  <a:pt x="2732" y="408"/>
                  <a:pt x="2441" y="204"/>
                  <a:pt x="2116" y="113"/>
                </a:cubicBezTo>
                <a:cubicBezTo>
                  <a:pt x="1791" y="22"/>
                  <a:pt x="1398" y="0"/>
                  <a:pt x="1073" y="68"/>
                </a:cubicBezTo>
                <a:cubicBezTo>
                  <a:pt x="748" y="136"/>
                  <a:pt x="332" y="438"/>
                  <a:pt x="166" y="521"/>
                </a:cubicBezTo>
                <a:cubicBezTo>
                  <a:pt x="0" y="604"/>
                  <a:pt x="37" y="585"/>
                  <a:pt x="75" y="56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700360" y="3357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40000" y="3213000"/>
            <a:ext cx="3672000" cy="21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66920" y="342900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724000" y="3213000"/>
            <a:ext cx="287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Zona de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1280" y="4076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Zona de fresnel es el área alrededor de la línea de vista donde las ondas de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 área debe estar libre de obstáculos, de otra manera la fuerza y la calidad de la señal ira a la ba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08000" y="2133720"/>
            <a:ext cx="53294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8000" y="242100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2133720"/>
            <a:ext cx="2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692360" y="2205000"/>
            <a:ext cx="215640" cy="432000"/>
            <a:chOff x="1692360" y="2205000"/>
            <a:chExt cx="215640" cy="432000"/>
          </a:xfrm>
        </p:grpSpPr>
        <p:sp>
          <p:nvSpPr>
            <p:cNvPr id="488" name=""/>
            <p:cNvSpPr/>
            <p:nvPr/>
          </p:nvSpPr>
          <p:spPr>
            <a:xfrm>
              <a:off x="1692360" y="2205000"/>
              <a:ext cx="144360" cy="432000"/>
            </a:xfrm>
            <a:custGeom>
              <a:avLst/>
              <a:gdLst/>
              <a:ahLst/>
              <a:rect l="l" t="t" r="r" b="b"/>
              <a:pathLst>
                <a:path w="91" h="272">
                  <a:moveTo>
                    <a:pt x="91" y="0"/>
                  </a:moveTo>
                  <a:cubicBezTo>
                    <a:pt x="45" y="45"/>
                    <a:pt x="0" y="91"/>
                    <a:pt x="0" y="136"/>
                  </a:cubicBezTo>
                  <a:cubicBezTo>
                    <a:pt x="0" y="181"/>
                    <a:pt x="76" y="249"/>
                    <a:pt x="91" y="27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92360" y="24210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236000" y="2205000"/>
            <a:ext cx="144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7308720" y="2491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ree"/>
          <p:cNvSpPr/>
          <p:nvPr/>
        </p:nvSpPr>
        <p:spPr>
          <a:xfrm>
            <a:off x="5724360" y="2565360"/>
            <a:ext cx="576360" cy="792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ree"/>
          <p:cNvSpPr/>
          <p:nvPr/>
        </p:nvSpPr>
        <p:spPr>
          <a:xfrm>
            <a:off x="5076720" y="2637000"/>
            <a:ext cx="576360" cy="79200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ree"/>
          <p:cNvSpPr/>
          <p:nvPr/>
        </p:nvSpPr>
        <p:spPr>
          <a:xfrm>
            <a:off x="5219640" y="2565360"/>
            <a:ext cx="720720" cy="10796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92360" y="242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20000" y="2852640"/>
            <a:ext cx="936720" cy="72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71640" y="2997360"/>
            <a:ext cx="936360" cy="57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ndo el fres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nstruya una estructura alta (torre) donde montar la anten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Incremente la altura de la torre existen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Localice un diferente punto de montaje para la anten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Corte los árboles problemáticos  </a:t>
            </a:r>
            <a:r>
              <a:rPr b="0" lang="es-ES_tradnl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ñ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eñales Multipath pueden causar altas tasas de fuerza de señal de RF, pero pobres niveles de calidad de 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umiend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FUERZA de RF no significan pobre comunic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os niveles de calidad SIGNIFICAN pobre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cción del amb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ores deben ser sellados para protegerlos de la corro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cinta vulcanizable, recom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nta aislante de vinilo NO es recomendabl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ineación de la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juste la antena y manten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arización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ción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ajusta, de ser posible, verifi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ueba de ancho de banda si el radio lo per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nas de alta ganancia son mas difíciles de orientar que las de baja ganancia debido a la estrechez del h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 rot="1268400">
            <a:off x="6588000" y="2276640"/>
            <a:ext cx="1871640" cy="15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en su red inalámb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ga una lista de direcciones MAC de los clientes que se conectan a su Punto de Acceso (A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de usar encr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 wep, pero hará su red mas lenta y adicionalmente ya es una seguridad “insegu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opologías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nto a punto o Punto 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ridge o rute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DS adiciona nuevas características para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64000" y="1916280"/>
            <a:ext cx="505080" cy="1441440"/>
            <a:chOff x="5364000" y="1916280"/>
            <a:chExt cx="505080" cy="1441440"/>
          </a:xfrm>
        </p:grpSpPr>
        <p:sp>
          <p:nvSpPr>
            <p:cNvPr id="225" name=""/>
            <p:cNvSpPr/>
            <p:nvPr/>
          </p:nvSpPr>
          <p:spPr>
            <a:xfrm>
              <a:off x="5435640" y="30686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64000" y="191628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>
              <a:stCxn id="226" idx="2"/>
              <a:endCxn id="225" idx="0"/>
            </p:cNvCxnSpPr>
            <p:nvPr/>
          </p:nvCxnSpPr>
          <p:spPr>
            <a:xfrm>
              <a:off x="5616360" y="2276640"/>
              <a:ext cx="35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8" name=""/>
          <p:cNvGrpSpPr/>
          <p:nvPr/>
        </p:nvGrpSpPr>
        <p:grpSpPr>
          <a:xfrm>
            <a:off x="6515280" y="1989000"/>
            <a:ext cx="2089080" cy="1225800"/>
            <a:chOff x="6515280" y="1989000"/>
            <a:chExt cx="2089080" cy="1225800"/>
          </a:xfrm>
        </p:grpSpPr>
        <p:sp>
          <p:nvSpPr>
            <p:cNvPr id="229" name=""/>
            <p:cNvSpPr/>
            <p:nvPr/>
          </p:nvSpPr>
          <p:spPr>
            <a:xfrm>
              <a:off x="651528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9128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7640" y="292572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6000" y="198900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72360" y="292572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29" idx="0"/>
              <a:endCxn id="232" idx="2"/>
            </p:cNvCxnSpPr>
            <p:nvPr/>
          </p:nvCxnSpPr>
          <p:spPr>
            <a:xfrm flipV="1">
              <a:off x="6730920" y="234864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30" idx="0"/>
              <a:endCxn id="232" idx="2"/>
            </p:cNvCxnSpPr>
            <p:nvPr/>
          </p:nvCxnSpPr>
          <p:spPr>
            <a:xfrm flipV="1">
              <a:off x="7306920" y="234864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31" idx="0"/>
              <a:endCxn id="232" idx="2"/>
            </p:cNvCxnSpPr>
            <p:nvPr/>
          </p:nvCxnSpPr>
          <p:spPr>
            <a:xfrm flipH="1" flipV="1">
              <a:off x="7488000" y="234864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33" idx="0"/>
              <a:endCxn id="232" idx="2"/>
            </p:cNvCxnSpPr>
            <p:nvPr/>
          </p:nvCxnSpPr>
          <p:spPr>
            <a:xfrm flipH="1" flipV="1">
              <a:off x="7488000" y="234864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4427640" y="3933720"/>
            <a:ext cx="4394160" cy="1225800"/>
            <a:chOff x="4427640" y="3933720"/>
            <a:chExt cx="4394160" cy="1225800"/>
          </a:xfrm>
        </p:grpSpPr>
        <p:sp>
          <p:nvSpPr>
            <p:cNvPr id="239" name=""/>
            <p:cNvSpPr/>
            <p:nvPr/>
          </p:nvSpPr>
          <p:spPr>
            <a:xfrm>
              <a:off x="673272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08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8508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344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898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4" name=""/>
            <p:cNvCxnSpPr>
              <a:stCxn id="239" idx="0"/>
              <a:endCxn id="242" idx="2"/>
            </p:cNvCxnSpPr>
            <p:nvPr/>
          </p:nvCxnSpPr>
          <p:spPr>
            <a:xfrm flipV="1">
              <a:off x="694836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>
              <a:stCxn id="240" idx="0"/>
              <a:endCxn id="242" idx="2"/>
            </p:cNvCxnSpPr>
            <p:nvPr/>
          </p:nvCxnSpPr>
          <p:spPr>
            <a:xfrm flipV="1">
              <a:off x="752436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6" name=""/>
            <p:cNvCxnSpPr>
              <a:stCxn id="241" idx="0"/>
              <a:endCxn id="242" idx="2"/>
            </p:cNvCxnSpPr>
            <p:nvPr/>
          </p:nvCxnSpPr>
          <p:spPr>
            <a:xfrm flipH="1" flipV="1">
              <a:off x="770544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"/>
            <p:cNvCxnSpPr>
              <a:stCxn id="243" idx="0"/>
              <a:endCxn id="242" idx="2"/>
            </p:cNvCxnSpPr>
            <p:nvPr/>
          </p:nvCxnSpPr>
          <p:spPr>
            <a:xfrm flipH="1" flipV="1">
              <a:off x="770544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" name=""/>
            <p:cNvSpPr/>
            <p:nvPr/>
          </p:nvSpPr>
          <p:spPr>
            <a:xfrm>
              <a:off x="4427640" y="4870440"/>
              <a:ext cx="43164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8000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48360" y="3933720"/>
              <a:ext cx="504720" cy="360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84720" y="4870440"/>
              <a:ext cx="432000" cy="28908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"/>
            <p:cNvCxnSpPr>
              <a:stCxn id="248" idx="0"/>
              <a:endCxn id="251" idx="2"/>
            </p:cNvCxnSpPr>
            <p:nvPr/>
          </p:nvCxnSpPr>
          <p:spPr>
            <a:xfrm flipV="1">
              <a:off x="4643280" y="4293360"/>
              <a:ext cx="758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49" idx="0"/>
              <a:endCxn id="251" idx="2"/>
            </p:cNvCxnSpPr>
            <p:nvPr/>
          </p:nvCxnSpPr>
          <p:spPr>
            <a:xfrm flipV="1">
              <a:off x="5219280" y="4293360"/>
              <a:ext cx="1818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50" idx="0"/>
              <a:endCxn id="251" idx="2"/>
            </p:cNvCxnSpPr>
            <p:nvPr/>
          </p:nvCxnSpPr>
          <p:spPr>
            <a:xfrm flipH="1" flipV="1">
              <a:off x="5400360" y="4293360"/>
              <a:ext cx="39600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6" name=""/>
            <p:cNvCxnSpPr>
              <a:stCxn id="252" idx="0"/>
              <a:endCxn id="251" idx="2"/>
            </p:cNvCxnSpPr>
            <p:nvPr/>
          </p:nvCxnSpPr>
          <p:spPr>
            <a:xfrm flipH="1" flipV="1">
              <a:off x="5400360" y="4293360"/>
              <a:ext cx="90072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7" name=""/>
            <p:cNvCxnSpPr>
              <a:stCxn id="251" idx="3"/>
              <a:endCxn id="242" idx="1"/>
            </p:cNvCxnSpPr>
            <p:nvPr/>
          </p:nvCxnSpPr>
          <p:spPr>
            <a:xfrm>
              <a:off x="5652720" y="4114440"/>
              <a:ext cx="1801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dashDot"/>
              <a:miter/>
            </a:ln>
          </p:spPr>
        </p:cxnSp>
      </p:grpSp>
      <p:grpSp>
        <p:nvGrpSpPr>
          <p:cNvPr id="258" name=""/>
          <p:cNvGrpSpPr/>
          <p:nvPr/>
        </p:nvGrpSpPr>
        <p:grpSpPr>
          <a:xfrm>
            <a:off x="5292720" y="5589720"/>
            <a:ext cx="2664000" cy="360360"/>
            <a:chOff x="5292720" y="5589720"/>
            <a:chExt cx="2664000" cy="360360"/>
          </a:xfrm>
        </p:grpSpPr>
        <p:sp>
          <p:nvSpPr>
            <p:cNvPr id="259" name=""/>
            <p:cNvSpPr/>
            <p:nvPr/>
          </p:nvSpPr>
          <p:spPr>
            <a:xfrm>
              <a:off x="7451640" y="5589720"/>
              <a:ext cx="50508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5589720"/>
              <a:ext cx="504720" cy="360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60" idx="3"/>
              <a:endCxn id="259" idx="1"/>
            </p:cNvCxnSpPr>
            <p:nvPr/>
          </p:nvCxnSpPr>
          <p:spPr>
            <a:xfrm>
              <a:off x="5797080" y="5770080"/>
              <a:ext cx="16549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</p:cxnSp>
      </p:grpSp>
      <p:sp>
        <p:nvSpPr>
          <p:cNvPr id="262" name=""/>
          <p:cNvSpPr/>
          <p:nvPr/>
        </p:nvSpPr>
        <p:spPr>
          <a:xfrm>
            <a:off x="6012000" y="37162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37372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ándares sopor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b: 11mbps a 2412-2462MHz (11 canales, solo tres sin trasla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a: 54mbps a 5180-5320MHz y 5745-5805MHz (12 de los canales s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lap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, 108Mbps Modo Turbo (4 c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EEE 802.11g: 54mbps a 2412-2472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b/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414936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1)  canales de 22 MHz de ancho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anales sin trasl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Access Points puéden ocupar la misma area sin interferirse entre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7200" y="1608120"/>
            <a:ext cx="7115400" cy="2276640"/>
            <a:chOff x="727200" y="1608120"/>
            <a:chExt cx="7115400" cy="2276640"/>
          </a:xfrm>
        </p:grpSpPr>
        <p:sp>
          <p:nvSpPr>
            <p:cNvPr id="269" name=""/>
            <p:cNvSpPr/>
            <p:nvPr/>
          </p:nvSpPr>
          <p:spPr>
            <a:xfrm>
              <a:off x="3343320" y="3521160"/>
              <a:ext cx="1940040" cy="30312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4"/>
                  </a:lnTo>
                  <a:lnTo>
                    <a:pt x="1220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3" y="23"/>
                  </a:lnTo>
                  <a:lnTo>
                    <a:pt x="885" y="19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4" y="33"/>
                  </a:lnTo>
                  <a:lnTo>
                    <a:pt x="223" y="46"/>
                  </a:lnTo>
                  <a:lnTo>
                    <a:pt x="179" y="59"/>
                  </a:lnTo>
                  <a:lnTo>
                    <a:pt x="137" y="71"/>
                  </a:lnTo>
                  <a:lnTo>
                    <a:pt x="103" y="86"/>
                  </a:lnTo>
                  <a:lnTo>
                    <a:pt x="72" y="101"/>
                  </a:lnTo>
                  <a:lnTo>
                    <a:pt x="46" y="117"/>
                  </a:lnTo>
                  <a:lnTo>
                    <a:pt x="28" y="134"/>
                  </a:lnTo>
                  <a:lnTo>
                    <a:pt x="13" y="153"/>
                  </a:lnTo>
                  <a:lnTo>
                    <a:pt x="7" y="172"/>
                  </a:lnTo>
                  <a:lnTo>
                    <a:pt x="7" y="191"/>
                  </a:lnTo>
                  <a:lnTo>
                    <a:pt x="0" y="174"/>
                  </a:lnTo>
                  <a:lnTo>
                    <a:pt x="1222" y="174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9064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37320" y="3506760"/>
              <a:ext cx="1938240" cy="30024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8" y="145"/>
                  </a:lnTo>
                  <a:lnTo>
                    <a:pt x="1202" y="137"/>
                  </a:lnTo>
                  <a:lnTo>
                    <a:pt x="1185" y="120"/>
                  </a:lnTo>
                  <a:lnTo>
                    <a:pt x="1175" y="112"/>
                  </a:lnTo>
                  <a:lnTo>
                    <a:pt x="1162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3" y="74"/>
                  </a:lnTo>
                  <a:lnTo>
                    <a:pt x="1086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2"/>
                  </a:lnTo>
                  <a:lnTo>
                    <a:pt x="935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5"/>
                  </a:lnTo>
                  <a:lnTo>
                    <a:pt x="832" y="11"/>
                  </a:lnTo>
                  <a:lnTo>
                    <a:pt x="805" y="9"/>
                  </a:lnTo>
                  <a:lnTo>
                    <a:pt x="777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9"/>
                  </a:lnTo>
                  <a:lnTo>
                    <a:pt x="382" y="17"/>
                  </a:lnTo>
                  <a:lnTo>
                    <a:pt x="325" y="23"/>
                  </a:lnTo>
                  <a:lnTo>
                    <a:pt x="273" y="34"/>
                  </a:lnTo>
                  <a:lnTo>
                    <a:pt x="222" y="44"/>
                  </a:lnTo>
                  <a:lnTo>
                    <a:pt x="178" y="57"/>
                  </a:lnTo>
                  <a:lnTo>
                    <a:pt x="136" y="70"/>
                  </a:lnTo>
                  <a:lnTo>
                    <a:pt x="103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2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74880" y="1932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9080" y="190800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7200" y="3857760"/>
              <a:ext cx="7038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288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307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4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9732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5128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05240" y="1892160"/>
              <a:ext cx="180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22920" y="1892160"/>
              <a:ext cx="1440" cy="195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97760" y="1878120"/>
              <a:ext cx="144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76920" y="1928880"/>
              <a:ext cx="1800" cy="1952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90680" y="3112920"/>
              <a:ext cx="1940040" cy="30024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3"/>
                  </a:lnTo>
                  <a:lnTo>
                    <a:pt x="1220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6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6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6" y="9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2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2" y="101"/>
                  </a:lnTo>
                  <a:lnTo>
                    <a:pt x="47" y="116"/>
                  </a:lnTo>
                  <a:lnTo>
                    <a:pt x="28" y="135"/>
                  </a:lnTo>
                  <a:lnTo>
                    <a:pt x="13" y="152"/>
                  </a:lnTo>
                  <a:lnTo>
                    <a:pt x="7" y="170"/>
                  </a:lnTo>
                  <a:lnTo>
                    <a:pt x="7" y="189"/>
                  </a:lnTo>
                  <a:lnTo>
                    <a:pt x="0" y="173"/>
                  </a:lnTo>
                  <a:lnTo>
                    <a:pt x="1222" y="173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27520" y="312732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3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1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6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3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0"/>
                  </a:lnTo>
                  <a:lnTo>
                    <a:pt x="383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2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4880" y="2749680"/>
              <a:ext cx="1940040" cy="299880"/>
            </a:xfrm>
            <a:custGeom>
              <a:avLst/>
              <a:gdLst/>
              <a:ahLst/>
              <a:rect l="l" t="t" r="r" b="b"/>
              <a:pathLst>
                <a:path w="1222" h="189">
                  <a:moveTo>
                    <a:pt x="1222" y="181"/>
                  </a:moveTo>
                  <a:lnTo>
                    <a:pt x="1222" y="172"/>
                  </a:lnTo>
                  <a:lnTo>
                    <a:pt x="1220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7"/>
                  </a:lnTo>
                  <a:lnTo>
                    <a:pt x="913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9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3" y="4"/>
                  </a:lnTo>
                  <a:lnTo>
                    <a:pt x="440" y="11"/>
                  </a:lnTo>
                  <a:lnTo>
                    <a:pt x="381" y="17"/>
                  </a:lnTo>
                  <a:lnTo>
                    <a:pt x="324" y="25"/>
                  </a:lnTo>
                  <a:lnTo>
                    <a:pt x="271" y="34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2" y="101"/>
                  </a:lnTo>
                  <a:lnTo>
                    <a:pt x="46" y="118"/>
                  </a:lnTo>
                  <a:lnTo>
                    <a:pt x="28" y="135"/>
                  </a:lnTo>
                  <a:lnTo>
                    <a:pt x="13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2"/>
                  </a:lnTo>
                  <a:lnTo>
                    <a:pt x="1222" y="172"/>
                  </a:lnTo>
                  <a:lnTo>
                    <a:pt x="1222" y="181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6360" y="2416320"/>
              <a:ext cx="193860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3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8" y="145"/>
                  </a:lnTo>
                  <a:lnTo>
                    <a:pt x="1202" y="136"/>
                  </a:lnTo>
                  <a:lnTo>
                    <a:pt x="1185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49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3" y="73"/>
                  </a:lnTo>
                  <a:lnTo>
                    <a:pt x="1086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4" y="42"/>
                  </a:lnTo>
                  <a:lnTo>
                    <a:pt x="983" y="36"/>
                  </a:lnTo>
                  <a:lnTo>
                    <a:pt x="960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59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7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4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3" y="25"/>
                  </a:lnTo>
                  <a:lnTo>
                    <a:pt x="271" y="33"/>
                  </a:lnTo>
                  <a:lnTo>
                    <a:pt x="222" y="46"/>
                  </a:lnTo>
                  <a:lnTo>
                    <a:pt x="178" y="59"/>
                  </a:lnTo>
                  <a:lnTo>
                    <a:pt x="136" y="71"/>
                  </a:lnTo>
                  <a:lnTo>
                    <a:pt x="100" y="86"/>
                  </a:lnTo>
                  <a:lnTo>
                    <a:pt x="71" y="101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2" y="153"/>
                  </a:lnTo>
                  <a:lnTo>
                    <a:pt x="6" y="172"/>
                  </a:lnTo>
                  <a:lnTo>
                    <a:pt x="6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81480" y="2762280"/>
              <a:ext cx="1938240" cy="304920"/>
            </a:xfrm>
            <a:custGeom>
              <a:avLst/>
              <a:gdLst/>
              <a:ahLst/>
              <a:rect l="l" t="t" r="r" b="b"/>
              <a:pathLst>
                <a:path w="1221" h="192">
                  <a:moveTo>
                    <a:pt x="1221" y="183"/>
                  </a:moveTo>
                  <a:lnTo>
                    <a:pt x="1221" y="175"/>
                  </a:lnTo>
                  <a:lnTo>
                    <a:pt x="1219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2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9"/>
                  </a:lnTo>
                  <a:lnTo>
                    <a:pt x="1120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2" y="24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50" y="5"/>
                  </a:lnTo>
                  <a:lnTo>
                    <a:pt x="721" y="3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5"/>
                  </a:lnTo>
                  <a:lnTo>
                    <a:pt x="441" y="11"/>
                  </a:lnTo>
                  <a:lnTo>
                    <a:pt x="383" y="17"/>
                  </a:lnTo>
                  <a:lnTo>
                    <a:pt x="326" y="26"/>
                  </a:lnTo>
                  <a:lnTo>
                    <a:pt x="273" y="34"/>
                  </a:lnTo>
                  <a:lnTo>
                    <a:pt x="225" y="47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7"/>
                  </a:lnTo>
                  <a:lnTo>
                    <a:pt x="74" y="101"/>
                  </a:lnTo>
                  <a:lnTo>
                    <a:pt x="48" y="118"/>
                  </a:lnTo>
                  <a:lnTo>
                    <a:pt x="29" y="135"/>
                  </a:lnTo>
                  <a:lnTo>
                    <a:pt x="15" y="154"/>
                  </a:lnTo>
                  <a:lnTo>
                    <a:pt x="8" y="173"/>
                  </a:lnTo>
                  <a:lnTo>
                    <a:pt x="8" y="192"/>
                  </a:lnTo>
                  <a:lnTo>
                    <a:pt x="0" y="175"/>
                  </a:lnTo>
                  <a:lnTo>
                    <a:pt x="1221" y="175"/>
                  </a:lnTo>
                  <a:lnTo>
                    <a:pt x="1221" y="183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43280" y="2082960"/>
              <a:ext cx="1938240" cy="303120"/>
            </a:xfrm>
            <a:custGeom>
              <a:avLst/>
              <a:gdLst/>
              <a:ahLst/>
              <a:rect l="l" t="t" r="r" b="b"/>
              <a:pathLst>
                <a:path w="1221" h="191">
                  <a:moveTo>
                    <a:pt x="1221" y="182"/>
                  </a:moveTo>
                  <a:lnTo>
                    <a:pt x="1221" y="174"/>
                  </a:lnTo>
                  <a:lnTo>
                    <a:pt x="1219" y="164"/>
                  </a:lnTo>
                  <a:lnTo>
                    <a:pt x="1215" y="155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19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6"/>
                  </a:lnTo>
                  <a:lnTo>
                    <a:pt x="1135" y="88"/>
                  </a:lnTo>
                  <a:lnTo>
                    <a:pt x="1120" y="79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5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3"/>
                  </a:lnTo>
                  <a:lnTo>
                    <a:pt x="885" y="18"/>
                  </a:lnTo>
                  <a:lnTo>
                    <a:pt x="860" y="14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7" y="0"/>
                  </a:lnTo>
                  <a:lnTo>
                    <a:pt x="504" y="4"/>
                  </a:lnTo>
                  <a:lnTo>
                    <a:pt x="441" y="10"/>
                  </a:lnTo>
                  <a:lnTo>
                    <a:pt x="382" y="16"/>
                  </a:lnTo>
                  <a:lnTo>
                    <a:pt x="326" y="25"/>
                  </a:lnTo>
                  <a:lnTo>
                    <a:pt x="273" y="33"/>
                  </a:lnTo>
                  <a:lnTo>
                    <a:pt x="223" y="46"/>
                  </a:lnTo>
                  <a:lnTo>
                    <a:pt x="179" y="58"/>
                  </a:lnTo>
                  <a:lnTo>
                    <a:pt x="139" y="71"/>
                  </a:lnTo>
                  <a:lnTo>
                    <a:pt x="103" y="86"/>
                  </a:lnTo>
                  <a:lnTo>
                    <a:pt x="71" y="100"/>
                  </a:lnTo>
                  <a:lnTo>
                    <a:pt x="46" y="117"/>
                  </a:lnTo>
                  <a:lnTo>
                    <a:pt x="27" y="134"/>
                  </a:lnTo>
                  <a:lnTo>
                    <a:pt x="15" y="153"/>
                  </a:lnTo>
                  <a:lnTo>
                    <a:pt x="8" y="172"/>
                  </a:lnTo>
                  <a:lnTo>
                    <a:pt x="8" y="191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68920" y="2386080"/>
              <a:ext cx="1938240" cy="2998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2"/>
                  </a:lnTo>
                  <a:lnTo>
                    <a:pt x="1219" y="162"/>
                  </a:lnTo>
                  <a:lnTo>
                    <a:pt x="1215" y="153"/>
                  </a:lnTo>
                  <a:lnTo>
                    <a:pt x="1209" y="145"/>
                  </a:lnTo>
                  <a:lnTo>
                    <a:pt x="1202" y="136"/>
                  </a:lnTo>
                  <a:lnTo>
                    <a:pt x="1186" y="120"/>
                  </a:lnTo>
                  <a:lnTo>
                    <a:pt x="1175" y="111"/>
                  </a:lnTo>
                  <a:lnTo>
                    <a:pt x="1162" y="103"/>
                  </a:lnTo>
                  <a:lnTo>
                    <a:pt x="1150" y="94"/>
                  </a:lnTo>
                  <a:lnTo>
                    <a:pt x="1135" y="88"/>
                  </a:lnTo>
                  <a:lnTo>
                    <a:pt x="1120" y="80"/>
                  </a:lnTo>
                  <a:lnTo>
                    <a:pt x="1104" y="73"/>
                  </a:lnTo>
                  <a:lnTo>
                    <a:pt x="1087" y="67"/>
                  </a:lnTo>
                  <a:lnTo>
                    <a:pt x="1068" y="59"/>
                  </a:lnTo>
                  <a:lnTo>
                    <a:pt x="1049" y="52"/>
                  </a:lnTo>
                  <a:lnTo>
                    <a:pt x="1028" y="48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1"/>
                  </a:lnTo>
                  <a:lnTo>
                    <a:pt x="935" y="27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2" y="10"/>
                  </a:lnTo>
                  <a:lnTo>
                    <a:pt x="805" y="8"/>
                  </a:lnTo>
                  <a:lnTo>
                    <a:pt x="778" y="6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89" y="0"/>
                  </a:lnTo>
                  <a:lnTo>
                    <a:pt x="628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10"/>
                  </a:lnTo>
                  <a:lnTo>
                    <a:pt x="380" y="17"/>
                  </a:lnTo>
                  <a:lnTo>
                    <a:pt x="324" y="25"/>
                  </a:lnTo>
                  <a:lnTo>
                    <a:pt x="271" y="33"/>
                  </a:lnTo>
                  <a:lnTo>
                    <a:pt x="223" y="46"/>
                  </a:lnTo>
                  <a:lnTo>
                    <a:pt x="179" y="57"/>
                  </a:lnTo>
                  <a:lnTo>
                    <a:pt x="137" y="71"/>
                  </a:lnTo>
                  <a:lnTo>
                    <a:pt x="101" y="86"/>
                  </a:lnTo>
                  <a:lnTo>
                    <a:pt x="71" y="101"/>
                  </a:lnTo>
                  <a:lnTo>
                    <a:pt x="46" y="118"/>
                  </a:lnTo>
                  <a:lnTo>
                    <a:pt x="27" y="134"/>
                  </a:lnTo>
                  <a:lnTo>
                    <a:pt x="12" y="151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0" y="174"/>
                  </a:lnTo>
                  <a:lnTo>
                    <a:pt x="1221" y="174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35480" y="2004840"/>
              <a:ext cx="1940040" cy="303480"/>
            </a:xfrm>
            <a:custGeom>
              <a:avLst/>
              <a:gdLst/>
              <a:ahLst/>
              <a:rect l="l" t="t" r="r" b="b"/>
              <a:pathLst>
                <a:path w="1222" h="191">
                  <a:moveTo>
                    <a:pt x="1222" y="183"/>
                  </a:moveTo>
                  <a:lnTo>
                    <a:pt x="1222" y="175"/>
                  </a:lnTo>
                  <a:lnTo>
                    <a:pt x="1220" y="164"/>
                  </a:lnTo>
                  <a:lnTo>
                    <a:pt x="1215" y="156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7"/>
                  </a:lnTo>
                  <a:lnTo>
                    <a:pt x="1135" y="88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7"/>
                  </a:lnTo>
                  <a:lnTo>
                    <a:pt x="1068" y="61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7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8" y="28"/>
                  </a:lnTo>
                  <a:lnTo>
                    <a:pt x="913" y="23"/>
                  </a:lnTo>
                  <a:lnTo>
                    <a:pt x="887" y="19"/>
                  </a:lnTo>
                  <a:lnTo>
                    <a:pt x="860" y="15"/>
                  </a:lnTo>
                  <a:lnTo>
                    <a:pt x="835" y="11"/>
                  </a:lnTo>
                  <a:lnTo>
                    <a:pt x="805" y="9"/>
                  </a:lnTo>
                  <a:lnTo>
                    <a:pt x="778" y="6"/>
                  </a:lnTo>
                  <a:lnTo>
                    <a:pt x="751" y="4"/>
                  </a:lnTo>
                  <a:lnTo>
                    <a:pt x="721" y="2"/>
                  </a:lnTo>
                  <a:lnTo>
                    <a:pt x="692" y="0"/>
                  </a:lnTo>
                  <a:lnTo>
                    <a:pt x="631" y="0"/>
                  </a:lnTo>
                  <a:lnTo>
                    <a:pt x="637" y="0"/>
                  </a:lnTo>
                  <a:lnTo>
                    <a:pt x="505" y="4"/>
                  </a:lnTo>
                  <a:lnTo>
                    <a:pt x="442" y="11"/>
                  </a:lnTo>
                  <a:lnTo>
                    <a:pt x="383" y="17"/>
                  </a:lnTo>
                  <a:lnTo>
                    <a:pt x="326" y="25"/>
                  </a:lnTo>
                  <a:lnTo>
                    <a:pt x="274" y="34"/>
                  </a:lnTo>
                  <a:lnTo>
                    <a:pt x="225" y="46"/>
                  </a:lnTo>
                  <a:lnTo>
                    <a:pt x="181" y="59"/>
                  </a:lnTo>
                  <a:lnTo>
                    <a:pt x="139" y="72"/>
                  </a:lnTo>
                  <a:lnTo>
                    <a:pt x="103" y="86"/>
                  </a:lnTo>
                  <a:lnTo>
                    <a:pt x="74" y="101"/>
                  </a:lnTo>
                  <a:lnTo>
                    <a:pt x="49" y="118"/>
                  </a:lnTo>
                  <a:lnTo>
                    <a:pt x="30" y="135"/>
                  </a:lnTo>
                  <a:lnTo>
                    <a:pt x="15" y="154"/>
                  </a:lnTo>
                  <a:lnTo>
                    <a:pt x="9" y="173"/>
                  </a:lnTo>
                  <a:lnTo>
                    <a:pt x="9" y="191"/>
                  </a:lnTo>
                  <a:lnTo>
                    <a:pt x="0" y="175"/>
                  </a:lnTo>
                  <a:lnTo>
                    <a:pt x="1222" y="175"/>
                  </a:lnTo>
                  <a:lnTo>
                    <a:pt x="1222" y="18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90640" y="2068560"/>
              <a:ext cx="1440" cy="17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48640" y="2085840"/>
              <a:ext cx="1440" cy="177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14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92480" y="1635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2800" y="161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076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70280" y="16207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1880" y="1608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260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62400" y="1631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6320" y="16146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0640" y="16178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600" y="1620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28920" y="1808280"/>
              <a:ext cx="548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4800" y="1835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76120" y="16923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48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nales- 802.1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9640" y="50846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2)  canales de 20 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) canales de 40MHz de an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42160" y="1628640"/>
            <a:ext cx="7710120" cy="3438720"/>
            <a:chOff x="542160" y="1628640"/>
            <a:chExt cx="7710120" cy="3438720"/>
          </a:xfrm>
        </p:grpSpPr>
        <p:sp>
          <p:nvSpPr>
            <p:cNvPr id="311" name=""/>
            <p:cNvSpPr/>
            <p:nvPr/>
          </p:nvSpPr>
          <p:spPr>
            <a:xfrm>
              <a:off x="370512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400" y="39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9708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6216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580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1917720"/>
              <a:ext cx="180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8640" y="2994120"/>
              <a:ext cx="7299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7080" y="1989000"/>
              <a:ext cx="1800" cy="98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28000" y="2060640"/>
              <a:ext cx="936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589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243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16000" y="1844640"/>
              <a:ext cx="6480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2160" y="30700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18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54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88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530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29080" y="2637000"/>
              <a:ext cx="863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236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5164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1672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8036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88000" y="1917720"/>
              <a:ext cx="1440" cy="108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34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856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600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1964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22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0728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328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46920" y="2637000"/>
              <a:ext cx="86364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85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1672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803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440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90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4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416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780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8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0144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6880" y="30686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3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2728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63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6000" y="2133720"/>
              <a:ext cx="324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9236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84720" y="2133720"/>
              <a:ext cx="1800" cy="87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19640" y="2276640"/>
              <a:ext cx="1727280" cy="28872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12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4108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8000" y="19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9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9564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072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2436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32000" y="3718080"/>
              <a:ext cx="1440" cy="108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8560" y="4797360"/>
              <a:ext cx="345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8560" y="3789360"/>
              <a:ext cx="1440" cy="9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6000" y="3860640"/>
              <a:ext cx="9720" cy="9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88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5164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14560" y="3645000"/>
              <a:ext cx="3025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3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3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0000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6364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1528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8036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90920" y="4437000"/>
              <a:ext cx="86364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9933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1528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4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7892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4220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8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0764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12360" y="4869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1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4560" y="4076640"/>
              <a:ext cx="172692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6436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7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491640" y="3716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3280" y="4076640"/>
              <a:ext cx="1727280" cy="289080"/>
            </a:xfrm>
            <a:custGeom>
              <a:avLst/>
              <a:gdLst/>
              <a:ahLst/>
              <a:rect l="l" t="t" r="r" b="b"/>
              <a:pathLst>
                <a:path w="1221" h="189">
                  <a:moveTo>
                    <a:pt x="1221" y="181"/>
                  </a:moveTo>
                  <a:lnTo>
                    <a:pt x="1221" y="173"/>
                  </a:lnTo>
                  <a:lnTo>
                    <a:pt x="1219" y="162"/>
                  </a:lnTo>
                  <a:lnTo>
                    <a:pt x="1215" y="154"/>
                  </a:lnTo>
                  <a:lnTo>
                    <a:pt x="1209" y="145"/>
                  </a:lnTo>
                  <a:lnTo>
                    <a:pt x="1203" y="137"/>
                  </a:lnTo>
                  <a:lnTo>
                    <a:pt x="1186" y="120"/>
                  </a:lnTo>
                  <a:lnTo>
                    <a:pt x="1175" y="112"/>
                  </a:lnTo>
                  <a:lnTo>
                    <a:pt x="1163" y="103"/>
                  </a:lnTo>
                  <a:lnTo>
                    <a:pt x="1150" y="95"/>
                  </a:lnTo>
                  <a:lnTo>
                    <a:pt x="1135" y="89"/>
                  </a:lnTo>
                  <a:lnTo>
                    <a:pt x="1121" y="80"/>
                  </a:lnTo>
                  <a:lnTo>
                    <a:pt x="1104" y="74"/>
                  </a:lnTo>
                  <a:lnTo>
                    <a:pt x="1087" y="68"/>
                  </a:lnTo>
                  <a:lnTo>
                    <a:pt x="1068" y="59"/>
                  </a:lnTo>
                  <a:lnTo>
                    <a:pt x="1049" y="53"/>
                  </a:lnTo>
                  <a:lnTo>
                    <a:pt x="1028" y="49"/>
                  </a:lnTo>
                  <a:lnTo>
                    <a:pt x="1005" y="42"/>
                  </a:lnTo>
                  <a:lnTo>
                    <a:pt x="984" y="36"/>
                  </a:lnTo>
                  <a:lnTo>
                    <a:pt x="961" y="32"/>
                  </a:lnTo>
                  <a:lnTo>
                    <a:pt x="936" y="28"/>
                  </a:lnTo>
                  <a:lnTo>
                    <a:pt x="912" y="21"/>
                  </a:lnTo>
                  <a:lnTo>
                    <a:pt x="885" y="19"/>
                  </a:lnTo>
                  <a:lnTo>
                    <a:pt x="860" y="15"/>
                  </a:lnTo>
                  <a:lnTo>
                    <a:pt x="833" y="11"/>
                  </a:lnTo>
                  <a:lnTo>
                    <a:pt x="805" y="9"/>
                  </a:lnTo>
                  <a:lnTo>
                    <a:pt x="778" y="7"/>
                  </a:lnTo>
                  <a:lnTo>
                    <a:pt x="748" y="4"/>
                  </a:lnTo>
                  <a:lnTo>
                    <a:pt x="719" y="2"/>
                  </a:lnTo>
                  <a:lnTo>
                    <a:pt x="690" y="0"/>
                  </a:lnTo>
                  <a:lnTo>
                    <a:pt x="629" y="0"/>
                  </a:lnTo>
                  <a:lnTo>
                    <a:pt x="635" y="0"/>
                  </a:lnTo>
                  <a:lnTo>
                    <a:pt x="502" y="4"/>
                  </a:lnTo>
                  <a:lnTo>
                    <a:pt x="439" y="9"/>
                  </a:lnTo>
                  <a:lnTo>
                    <a:pt x="381" y="17"/>
                  </a:lnTo>
                  <a:lnTo>
                    <a:pt x="324" y="23"/>
                  </a:lnTo>
                  <a:lnTo>
                    <a:pt x="271" y="34"/>
                  </a:lnTo>
                  <a:lnTo>
                    <a:pt x="223" y="44"/>
                  </a:lnTo>
                  <a:lnTo>
                    <a:pt x="179" y="57"/>
                  </a:lnTo>
                  <a:lnTo>
                    <a:pt x="137" y="70"/>
                  </a:lnTo>
                  <a:lnTo>
                    <a:pt x="101" y="84"/>
                  </a:lnTo>
                  <a:lnTo>
                    <a:pt x="71" y="101"/>
                  </a:lnTo>
                  <a:lnTo>
                    <a:pt x="46" y="116"/>
                  </a:lnTo>
                  <a:lnTo>
                    <a:pt x="27" y="135"/>
                  </a:lnTo>
                  <a:lnTo>
                    <a:pt x="13" y="152"/>
                  </a:lnTo>
                  <a:lnTo>
                    <a:pt x="6" y="171"/>
                  </a:lnTo>
                  <a:lnTo>
                    <a:pt x="6" y="189"/>
                  </a:lnTo>
                  <a:lnTo>
                    <a:pt x="0" y="173"/>
                  </a:lnTo>
                  <a:lnTo>
                    <a:pt x="1221" y="173"/>
                  </a:lnTo>
                  <a:lnTo>
                    <a:pt x="1221" y="18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12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8472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56000" y="16286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9272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20000" y="3429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326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cuencias a la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kroTik RouterOS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orta las  de la band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frecuencias a la medida para tarjet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he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24360" y="422100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2852640"/>
            <a:ext cx="1152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12-2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24000" y="2852640"/>
            <a:ext cx="115272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12-24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95640" y="2852640"/>
            <a:ext cx="1152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12-2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2852640"/>
            <a:ext cx="360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5640" y="3932280"/>
            <a:ext cx="3024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20-5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3932280"/>
            <a:ext cx="244764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80-5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27640" y="3933720"/>
            <a:ext cx="172908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30-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5013360"/>
            <a:ext cx="1944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5013360"/>
            <a:ext cx="1295280" cy="93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45-58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6720" y="5013360"/>
            <a:ext cx="345600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15-6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386064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4941720"/>
            <a:ext cx="647640" cy="1081080"/>
          </a:xfrm>
          <a:prstGeom prst="rightArrow">
            <a:avLst>
              <a:gd name="adj1" fmla="val 80157"/>
              <a:gd name="adj2" fmla="val 269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figuraciones importantes en la int. inalámbrica en el Rout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-bridge o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ción o 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SID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nda (Todos los mo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ecuencia (ap-bridge y modo brid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sta de búsqueda (scan) (station m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12000" y="2349360"/>
            <a:ext cx="2592000" cy="1583640"/>
            <a:chOff x="6012000" y="2349360"/>
            <a:chExt cx="2592000" cy="1583640"/>
          </a:xfrm>
        </p:grpSpPr>
        <p:sp>
          <p:nvSpPr>
            <p:cNvPr id="409" name=""/>
            <p:cNvSpPr/>
            <p:nvPr/>
          </p:nvSpPr>
          <p:spPr>
            <a:xfrm>
              <a:off x="601200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2660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41920" y="3559680"/>
              <a:ext cx="53532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06240" y="2349360"/>
              <a:ext cx="626040" cy="465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67960" y="3559680"/>
              <a:ext cx="536040" cy="373320"/>
            </a:xfrm>
            <a:prstGeom prst="ellipse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"/>
            <p:cNvCxnSpPr>
              <a:stCxn id="409" idx="0"/>
              <a:endCxn id="412" idx="2"/>
            </p:cNvCxnSpPr>
            <p:nvPr/>
          </p:nvCxnSpPr>
          <p:spPr>
            <a:xfrm flipV="1">
              <a:off x="6279480" y="2814120"/>
              <a:ext cx="94032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5" name=""/>
            <p:cNvCxnSpPr>
              <a:stCxn id="410" idx="0"/>
              <a:endCxn id="412" idx="2"/>
            </p:cNvCxnSpPr>
            <p:nvPr/>
          </p:nvCxnSpPr>
          <p:spPr>
            <a:xfrm flipV="1">
              <a:off x="6994440" y="2814120"/>
              <a:ext cx="22536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411" idx="0"/>
              <a:endCxn id="412" idx="2"/>
            </p:cNvCxnSpPr>
            <p:nvPr/>
          </p:nvCxnSpPr>
          <p:spPr>
            <a:xfrm flipH="1" flipV="1">
              <a:off x="7219080" y="2814120"/>
              <a:ext cx="4910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17" name=""/>
            <p:cNvCxnSpPr>
              <a:stCxn id="413" idx="0"/>
              <a:endCxn id="412" idx="2"/>
            </p:cNvCxnSpPr>
            <p:nvPr/>
          </p:nvCxnSpPr>
          <p:spPr>
            <a:xfrm flipH="1" flipV="1">
              <a:off x="7219080" y="2814120"/>
              <a:ext cx="1117440" cy="74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de ant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rec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mni (360 grados de cobertura) direc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al (rango limitado de cobertu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do en dBi y dBd. (0dBd = 2.14dB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s ganancia significa mas cobertura –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en ciertas direc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lar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520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tenas en polarización vert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0:13:36Z</dcterms:created>
  <dc:creator>Arnis</dc:creator>
  <dc:description/>
  <dc:language>en-US</dc:language>
  <cp:lastModifiedBy>Alfonso Urbina Araux</cp:lastModifiedBy>
  <dcterms:modified xsi:type="dcterms:W3CDTF">2006-02-24T00:03:41Z</dcterms:modified>
  <cp:revision>82</cp:revision>
  <dc:subject/>
  <dc:title>Slide 1</dc:title>
</cp:coreProperties>
</file>